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3DF0A6-56B8-43C6-A1FA-10CC555DCC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A23A3C-A542-479E-966A-8A5ECF6BD2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B7EB26-F724-4C7B-9478-0E01F36B05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BEEC6A-3FF5-4308-8F83-78A9A361A1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DEE8771-86D6-48F2-8E10-8D59255055B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284496-AA2C-4F58-9424-9FE60BC1CF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8A5F84-BDEB-4C52-8FB1-453303484F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624865-CACF-4E15-8DE2-8FF35D74F8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FBAB78-8F15-424F-9486-CFDF124BEB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C37B08-88D2-4E62-9FD8-5431C81C66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0B8744-C7F7-445F-A492-4EC91E31AC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F6C7D9-B64A-45E6-BC20-4E848352BD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7C5F72-25DE-4094-8FFC-C1CBB7389A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BF2BF6-68CF-4CF7-8D86-74539B59D3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D20143-D533-48A7-BB07-4F55F4C6CB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047FBB5-1ECB-437D-8FFF-C958CBF7309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3C8FE03-14FA-4566-B2E1-AC7BCC2EE78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A0F9B9-3721-4A9E-8669-16A502E1D9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8DE6A4-253F-4D68-A5F5-FE64F2F2CE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72FDD6-0F1C-4B3C-8F7C-B3F0772B37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F1ED9C-929B-43A0-A9C8-3164ADC780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671275-78CE-4F25-8067-B7C811C476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23D072-9751-427E-BBAE-F3F1191D5F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13E6D7-7C51-468C-9508-F6B328C944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F67ACB-1376-4A0B-82A4-CB30C6A8FF7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CF5022-EE6F-47B6-920E-F4604003732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1EAAB85-ED00-4FB6-9EF0-E2DBEC910B2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5B82C75-8ECE-4F30-84A1-ECE9626EEBED}"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E8D1D5-892D-43F7-979D-984448D09C52}"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714AB0-691B-4BE9-B7F8-21105312041B}"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973D28-7162-4294-A2DA-BE271A509571}"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487415-612E-4148-BEF7-8983E6941C13}"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9F8FF9-1A9C-417F-B673-AF2CE268899E}"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4FD9B6-DA4B-4176-9517-19DB3475DE9C}"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048477-492D-4948-AFF0-DC0B09C97ED7}"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AAAD7B-A56D-4C40-BC6C-EFEC3D701FE5}"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64E831-55AD-45B9-A7F3-B7217DADB69D}"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56D98E-F069-43F3-9133-164D1F411CD6}"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B0B75F-2658-41DE-9528-7FB8329497EC}"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21EE18-812F-4469-9F9C-322AA68E43E4}"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C8162D-3542-4F67-A3BD-EDF13AE17308}"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437B87-C0CA-47DC-A11D-9AE9214D362A}"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CE540C-D88B-46C8-B977-1331A1E3BCA0}"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2D6ADB-FB79-4840-8B1A-3336BF689A9B}"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CC667E-514C-4E66-88E6-57105E2265F0}"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34E29A-37EE-4F85-864B-54400647B03D}"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589F8F-8215-4496-A8B4-71DC79823142}"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52FFF0-0634-46D3-A133-13F027EF9711}"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659885-0EA4-4BFA-BE3F-F32C9F551F49}"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6318AC-6351-4AAE-A45F-95A084BAA82E}"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608A12-64F2-49EB-BB88-9210395373D0}"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A3B3AC-5DA5-407D-8DEC-7B425BDB0FC7}"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0E77AC-61FB-430B-8A8A-07314296A8EA}"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09B4AAB-5FA9-435C-9DDC-6BAD6EAEB844}"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8BA7B4-852B-4BD0-A469-536A0DE7EB97}"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CDE477-A632-4229-8ACA-9C3D5E3B1850}"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CA48F2-C568-4F45-AEB3-B36DF4AC1E18}"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FAD454-06A5-478D-AC62-EC652786FA22}"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2A9429-41A6-44F0-9755-A61937DCEF5A}"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53766B-0B44-4335-BFA2-DACDCCF1804D}"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2B99A5-6309-4383-8B1A-0C7059BA9204}"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C47615-C869-474F-97D2-7F1573B6B0C0}"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9AD05F-C69A-4E2D-AED0-BE89FD4DF007}"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DED65A-8B61-4D83-8FA0-F80D848575A1}"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F5F360-6DC7-4F10-A953-D8EA0CD3058B}"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D68E1B-97F6-4406-9778-08B40C57EBAF}"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4C6B69-91C7-40FB-B135-8EB05B62C95C}"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2457EA-D6BC-40C5-8B3C-B60A5C0A1C84}"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582F52-840D-4B59-B044-32314F33B570}"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6942F0-5E07-44B5-B21D-4E4D1DC9E24C}"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2194E2-B77E-4F62-A168-AA0420588783}"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E3E804-E616-468A-9E3C-44FEE2B4F255}"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27B0C1-D3D5-458A-8612-1C650765FB81}"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1891B2-972E-47FF-812F-7892AF18FD4A}"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BBC46D0-8892-444F-B9B6-74E5D8CAE761}"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E53B91-4214-400B-95D0-ADF1B59806BC}"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0085A7-6721-4B99-9E6F-29647EEF4BD5}"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4DFEAD4-9B4B-4DD3-8B42-73E4405EC353}"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31F1BB-F376-4D97-892A-09D4575B6E5C}"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D0774A-D77D-48BB-8AE1-81E157371217}"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371D23-5ABF-4279-AFAC-F989B15C7BCD}"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B5DCE7-A12A-4484-A0DC-189A2978086E}"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D6BA02-4C7D-4C20-9560-8E734A6BB42A}"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5E780A-CB4D-419C-93C6-BD530FBE8DF1}"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7802E5-757D-4772-90D7-8335A48CA5B7}"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52181F2-BB81-4CDE-BFC2-04ABAB6E73D8}"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AB456D-4726-43C7-8F84-74F8A67BFDD9}"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FEFD89-EB13-4736-A123-7E3C5DBE2B61}"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89CAD1-3D29-4D85-9BA0-4DDF8E45129F}"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68BC6A-5644-42E7-89A2-A56CDECD2920}"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D7B06F-D03E-484C-BA4C-075E6F1A5CBE}"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6910957-9495-4A9D-B353-1BD997964395}"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BB4A00-7B34-48A8-9A95-574DC8313524}"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3DD12F-681F-4B8F-9712-CBFF97C5CF47}"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9900FA-25A8-463B-94DD-58C7B243726B}"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33ACEB-0988-4FB0-B19A-65997759CAAC}"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35B285C-8A91-4F33-82E5-B0C19B6FBF1D}"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6A9B0B-C4A4-4A70-9A9D-CD5109FB665B}"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C9780D-2B5E-48FB-8644-59E24DF34C9E}"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BA5B44-AD30-4E4D-BF11-601B6440EC36}"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D37B7F-0760-4A26-84F4-69B324DFA313}"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EBE8EE-BB50-45B6-B037-71A806CCE7AC}"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FA5130-B885-4A31-9650-A98480A83487}"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307CA29-5EFF-43B0-AB39-E95BB58E6F08}"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288BD9-E7EE-4EEA-AFDE-E28318F20A74}"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B43B4D-5FC9-48F5-A2BA-AA2660A0E4CD}"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B5DD83-17E5-45CE-9084-74EFD0992B99}"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24A22A1-AE8D-45C6-A0E8-28AE2941341C}"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17078F-69CC-483B-A874-FB203B006E20}"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AE7F850-AA73-46D1-9F69-A686C392D5F7}"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8C892B-5808-41F2-B16A-17FC3AF618A3}"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C12914-4BFD-4741-A6F7-D19FD5192F8F}"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EF07C7-A56D-40D2-9C38-240A122788D9}"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6C39D7-827D-463D-8416-8D5E5A3E6C31}"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93A24C-90E7-4BFF-9C06-B5AA9D582B83}"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69FCB2-E05E-443A-8907-816FC8D688DA}"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42AF7F-12C7-4A79-8A91-0A9F16E465AB}"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0363CD-B122-4CA7-9D1D-D5C45AC11CB0}"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4F30AA-E34C-4BB0-9DF8-5102B6CB2B56}"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4CB052-B967-496D-A5E7-2F717E630C0D}"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41F9B4-F095-4FCB-B22F-C1A75D51017F}"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ABDB6F-4AF9-4953-9ECE-165698081232}"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321C72-CAC3-45CF-B6CB-0D16190B3721}"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60422D-5FD7-44D8-9053-F4F466BABD70}"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75C895-8E5E-4DA0-8EFA-8DAA5B949F9A}"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854BBE0-153C-4901-8271-2FAB58F67295}"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C4802D-02FC-4534-9212-4E53EF0ECCFE}"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519078-E052-4872-A427-F3EEF29BD268}"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4E69F8-0E9A-42E1-889B-E17E1D99D911}"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F09CFF-B17F-4B58-B537-304878EDA734}"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088BC4-462E-48E3-8A49-FA0C7DABC643}"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5E6442-7C8E-4431-8B26-59554BA73CDC}"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29AAF6-2327-45E9-9ECD-15958950C2E4}"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000277-A1E6-470F-8D9D-5356569952FA}"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786FEC-A1B4-42AA-A0D7-08F25442786C}"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181A9A-06A6-4FE9-9242-C916CAD7C613}"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F6901E-E970-4447-A04B-864F7626B62A}"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43EA2E-2762-4750-A0FC-F87859676B2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9B80D3-2F9C-471E-8E41-8C7A139893DA}"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CF19DA-46BB-44A0-9680-5605B1AB5DDD}"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37EB2D-6048-44DA-A404-326A08458E62}"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A439FE-8D4E-44A5-86C1-A8990B02706B}"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83151A-1F8A-46C3-8DF3-AD4FFE5B1B18}"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96DAC5-26BF-48C9-9321-4828391FBA4C}"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B02B43-2E83-4C97-9960-EC31B59C92EB}"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AD57E3-1574-47EA-95EF-17E3D084BFD3}"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00584A-5BE0-421B-A668-FDCDCD851595}"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CFACAC-331D-4700-A53E-096F0CF0DD5A}"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402121-3695-4A67-9C3D-35B3704D9878}"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A53499-24F0-4D51-90FD-C0B4FBC3D511}"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C6D8AA-541F-4D88-A340-4BF4F10D476A}"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967A80-B6D3-4FED-9C2F-BA36AFB0886B}"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93853C-1F77-4A2D-9C80-432086C736C7}"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1FF5424-B2BE-4716-84CB-E87BAADA5A16}"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B5933B-87FE-4417-8318-A5621803D6F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4193AE-A6C3-4A97-AAF9-1A58DAF10B7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58F447-769E-4F32-8778-2082D1501B3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0F8647-E9BA-41FC-B11C-5156C3D9B65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E4CD0D-503A-49B6-A727-FBD2538CDF0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63B1F3-E0B1-416F-AE54-EC570BB2ECD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AADA015-BBDA-4EDC-84C4-0F731E2E041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794204-5C1C-47CE-8A61-C2724E8FBCF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EE39A9-33C2-4555-8FCE-1361D940A20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747155-786B-4E5E-82C2-791EE6AB396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DE6FED-81DE-4949-BD0B-999F56D8D37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B34C5D-E3C1-4986-944A-51C068685FC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D400FF-7E27-4169-B105-4303A187951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7E28C2-96FC-4140-A7D9-2EB51345F7E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D22715-AD39-434A-AD4E-55FC1649740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ACDAE7-7CA7-4BD0-A1CB-70B7275BD95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87D82E-61C2-40FE-8C87-1DDBEB62B22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75A2A9-B4CB-4817-B30F-940CD1733EE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7595BE-8877-4071-8D11-A917770168F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45A2CD-6A36-47B8-83E4-D488E1CA1FE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1D8209-2143-4B18-966E-C04C90AD0D1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5FD4F6-ACC9-40E9-9D11-24FE7F04A7F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DD4003-270B-4ACE-BA56-69EA7A405E6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C4B118-D3A2-4465-B93C-5A6F4B58F91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C06E4D-8A53-4DB9-99B6-20AB6AF8228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8AD8CD-A7BE-476D-A957-BB970317B82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F65D18-128A-4C3C-97BB-D420270B0FC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B71BDC-3542-466A-8AEC-ACBC681B131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143288-0E2D-4E12-9E3A-0218C9C2DB2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58F6F8-0EA1-4614-A4F6-9D513BCFCD3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16E1B8-A623-4947-8004-1BB38F7626A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C6F8B2-6364-43EF-9F18-6BD21BB96F9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239507-C50F-4598-8F5C-058F3E28594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437EAC-DA14-4881-ABE8-DF1FFF70E23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C2A3B8-0188-42E8-8AD9-2D5871FEEFD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F619D4-A031-46BF-917B-9D2C1EF5040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DE1604-C531-4D6A-B9EB-D95E6522763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1805A9-95B9-415E-8810-2D203A1B056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0BD99D-38E4-4B62-8418-223CFFBC7DB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C55416-D49C-4286-9FB2-30C5DA6B8BC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261284-160A-46DB-B20C-5190381AB24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9B9E46-1F80-4FE4-BD90-DADEFC5BE5C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489B82-8969-4296-AA75-36EAED920448}"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09D432-D1F3-43F0-97E8-A018087909D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83037B-822A-427C-A532-7C83D9E7308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2E4DB0-57DD-4B9B-939F-CCE14A431FC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E5D17B-3B38-48EC-BCAF-56AB4E050E0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7DA8FEA-9378-4CDE-845C-0FDC5382E88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59BA32-1D7F-4BB4-AF23-34E2A637EF0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EF1479-4B11-4153-84B6-22BB85EC13B6}"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9F95CC-6FDE-450A-8613-7FD39D0B866E}"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92E8A6-CB38-41D9-AB50-3FBA86A6928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F09DA1-DD0E-4DA5-8827-891D7C72FDF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68836D-2F5E-4485-9F1F-CEC78FBE330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A64DBD-37AB-4DDE-B721-E46A308F5EDB}"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D6EC0C-5704-4C6C-B195-83AC9B14BFA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E3C029F-BC3E-4C19-A03E-ABAB6F8B937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F1C064-7C98-41B1-A36B-422FA06109AD}"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7C4A50-4BEC-4456-B77A-45A241ECF710}"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DA06AF-AC14-429C-8BF2-5851A2B31691}"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6DF954-B5FF-43F8-BB9F-DC97F73719D3}"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93A290-CF87-469F-B1D9-5433E00F64B8}"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A7B555-15AF-4D84-8B6D-2EE8E8AB19A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9072C5-3F91-486F-A8FF-D750884D1EAC}"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1A74A2-88DF-416A-BB5E-E402B3270A42}"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DBC9DC-0656-41AA-932E-7B3464A49A2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C3732C-1FD7-4D14-B0FE-7B3B1893BED9}"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9E8AA7-5143-4D47-ADCB-064DA4D6C73E}"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AE3BFD-77FD-4A91-A09D-6485EA3D28B6}"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7D9FF7-1E3A-44D6-B269-D06409E1D88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B71A8D-FE76-4582-AAA6-6427083E1B48}"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F700548-B6D1-4A9D-AAEB-4EAEA3BF6517}"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07E621-715C-4495-93A0-DCB53916AEFD}"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DD6504-7EE9-48C9-9777-E1CF1E2235E2}"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16C668-E9F5-42F5-AE75-CF979F9228F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098CF5-DE45-4124-AB34-F76C5339AAB1}"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915769-DA2D-4855-9334-E53700B29E1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8FC88A-C7EB-4878-BF90-C879B150D084}"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664F9E-AF02-49F1-8F86-05F99915FBF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E6B6BB-86BA-45C6-B688-B8EBAF285964}"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929C39-1732-4D3A-82AC-4AF59867170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05E926-F9DA-4E3D-BD13-E6E07939F5C9}"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66DC32-902E-40E4-861C-C94309368CA0}"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1BC296-8CCF-40A5-8A12-014250375A49}"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5DA4F6-E044-4909-A372-2FA6AB0CED72}"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