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43897"/>
        <c:axId val="6134931"/>
      </c:barChart>
      <c:catAx>
        <c:axId val="71743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4931"/>
        <c:crosses val="autoZero"/>
        <c:auto val="1"/>
        <c:lblAlgn val="ctr"/>
        <c:lblOffset val="100"/>
        <c:noMultiLvlLbl val="0"/>
      </c:catAx>
      <c:valAx>
        <c:axId val="6134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43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C21-4A3A-4ED0-B269-2A167DA2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9B0-3E68-41D6-85FD-E9BD2418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BEE-55A7-4739-AB63-56EE6BF7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FF9-6462-4832-A216-58D17174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FEE-69B0-4DAA-B524-C3CA3C33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F67-7B8D-4DB0-AD4A-E384340C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29F-47D5-4428-ADC2-30F42D87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737-8CA9-407C-AA60-D81032BB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6A8-7E04-463D-A399-41DFC86E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ADD-D2FF-4410-8CB4-22C62A3A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9FF-06C0-4B21-B755-F6E24433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DF6-0633-4054-BF56-053B0914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F2AEB-3A33-44A1-9FD7-DC580B8790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