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11796"/>
        <c:axId val="77830184"/>
      </c:barChart>
      <c:catAx>
        <c:axId val="31511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30184"/>
        <c:crosses val="autoZero"/>
        <c:auto val="1"/>
        <c:lblAlgn val="ctr"/>
        <c:lblOffset val="100"/>
        <c:noMultiLvlLbl val="0"/>
      </c:catAx>
      <c:valAx>
        <c:axId val="77830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11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532-2A9F-4919-950F-6C2E783C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B6F-7DEA-4EFD-B329-CB8674B8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041-3561-4EC8-839B-0D2DAF97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8BC-145D-464A-A5C9-BDFFB92D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E7B-3569-40AF-A550-8766B52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70B-F2B2-43A1-81FA-7418AE38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59C-FDF5-4721-92EA-74F2FB65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2EA-B898-43D9-9239-A98C824A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B7F-52AC-4B46-A39B-62FDA801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B93-6267-487E-98AC-BE19BFF0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65A-32ED-4CD2-BA6D-63BD5453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17C-731E-4296-8179-37CEAC6A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82CE2-9387-4E96-816C-A2B3FB5B98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