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61973"/>
        <c:axId val="82840086"/>
      </c:barChart>
      <c:catAx>
        <c:axId val="80061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40086"/>
        <c:crosses val="autoZero"/>
        <c:auto val="1"/>
        <c:lblAlgn val="ctr"/>
        <c:lblOffset val="100"/>
        <c:noMultiLvlLbl val="0"/>
      </c:catAx>
      <c:valAx>
        <c:axId val="82840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61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513-8A9C-480E-9061-B4D8AB1F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783-E73E-4A76-BE43-DE3947AB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1C1-97CF-467D-B720-806D1342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746-CE86-45C5-B56D-1D771696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A86-D651-4974-90DF-8EDB30A8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F78-4799-4466-90D2-E7D39856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ECF-5E8F-4B7E-9433-01767DCF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800-7FE8-4B8A-9DD4-41E9A9DE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71E-F50E-4C94-AF16-DB084717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BC8-104E-41A2-831F-B7653682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09A-7A72-46B1-8F3A-43FC662F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217-4FE9-4530-9F2F-86DA1819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0148-5703-4D09-B155-E8A3BEDCB6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