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7785"/>
        <c:axId val="91912148"/>
      </c:barChart>
      <c:catAx>
        <c:axId val="2377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12148"/>
        <c:crosses val="autoZero"/>
        <c:auto val="1"/>
        <c:lblAlgn val="ctr"/>
        <c:lblOffset val="100"/>
        <c:noMultiLvlLbl val="0"/>
      </c:catAx>
      <c:valAx>
        <c:axId val="91912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7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541-AAB5-4E41-ABC5-7A58D161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952-BD3B-493C-8DE6-40C76993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1D2-3200-4C4E-BA68-3F2A6E74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4A8-CB3F-471C-80E7-79A5D40D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DC9-E0DB-4E41-85F9-B64E4EF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D8F-F0DE-479C-8942-11BA1C47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5F3-1B7A-4389-BCE9-3AA229CB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E1E-D178-4ADF-9173-71C7BE60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CE4-7A20-4F0A-8923-7CE56F8D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C55-6CC5-4E1C-ADDF-8FEEBAA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C02-16FE-4AA4-A28F-7F86521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BA1-9141-4BE6-8BD5-7BE3AA5E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BFB9-B59A-4210-B498-23589EA2D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