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41792"/>
        <c:axId val="90207520"/>
      </c:barChart>
      <c:catAx>
        <c:axId val="53241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07520"/>
        <c:crosses val="autoZero"/>
        <c:auto val="1"/>
        <c:lblAlgn val="ctr"/>
        <c:lblOffset val="100"/>
        <c:noMultiLvlLbl val="0"/>
      </c:catAx>
      <c:valAx>
        <c:axId val="90207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41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1F3-DA11-4175-92FB-F382F85D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FCB-C4F7-47C1-B2BD-0D2A6CFB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A4A-566A-4763-B3CF-260B9B05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41F-09A9-4A9A-8CEF-6BC4FA7B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369-CDA1-47E4-B70D-7D371C0C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13E-29D6-42AB-92FD-FC6DB0B3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55F-95E1-4ABB-94AA-5FB3BAB2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D6B-9394-4FEC-A35F-AC1A52C4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547-7E26-4118-AC87-59271215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4D3-8EF4-4A69-A047-39583AD2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4EB-F503-4B02-9E19-CFC67018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05E-AC86-4469-BD84-03979C6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E5C7C-4F0C-449C-84DA-F966BB95FA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