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915"/>
        <c:axId val="77276175"/>
      </c:barChart>
      <c:catAx>
        <c:axId val="369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76175"/>
        <c:crosses val="autoZero"/>
        <c:auto val="1"/>
        <c:lblAlgn val="ctr"/>
        <c:lblOffset val="100"/>
        <c:noMultiLvlLbl val="0"/>
      </c:catAx>
      <c:valAx>
        <c:axId val="77276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D0C-A27C-4770-9BAB-016177A1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D65-189A-4882-87EC-4A20CA8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6AA-EFE8-4EB6-8AF1-0CE3065E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356-74F6-42D7-BBE4-88F267CE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585-E5FD-45ED-B5A7-A7C66DE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429-6C04-4D2B-954E-2976456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DBC-C100-4CD6-AD6E-3D6451B0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940-66F1-4DAA-BB30-D6D95265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06F-8763-4403-9208-5329889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6CD-D701-4C46-A99C-3019D27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965-0566-49F4-8C70-1A2DA89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49D-C622-4312-BEF3-D3487D0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D42DD-CE36-4800-BA9D-A648C23CF7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