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00376"/>
        <c:axId val="5040110"/>
      </c:barChart>
      <c:catAx>
        <c:axId val="43400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0110"/>
        <c:crosses val="autoZero"/>
        <c:auto val="1"/>
        <c:lblAlgn val="ctr"/>
        <c:lblOffset val="100"/>
        <c:noMultiLvlLbl val="0"/>
      </c:catAx>
      <c:valAx>
        <c:axId val="5040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00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A89-97F6-4493-B3C7-1D9E08D6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41B-5A02-4F4E-AE20-CBBC9244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E21-A4ED-4304-9047-49960151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F87-FD86-4F2D-AE15-FA4C7317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B32-42CC-4A54-83D7-744E2D94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CB2-6D14-4591-AD24-D5D9F13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C69-D3C0-4A6B-BFD5-2DF90104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207-93AA-4DFE-8CE3-5A0EC37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0E9-5CC6-454E-8792-52364D1E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691-390C-4D9A-9785-E914AE0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5B5-D2F3-4AB3-8B28-4E4D660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11F-8800-40C9-89BC-01FB2B1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CE69-7E65-4F00-A966-937A56CE2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