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84571"/>
        <c:axId val="69818294"/>
      </c:barChart>
      <c:catAx>
        <c:axId val="468845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18294"/>
        <c:crosses val="autoZero"/>
        <c:auto val="1"/>
        <c:lblAlgn val="ctr"/>
        <c:lblOffset val="100"/>
        <c:noMultiLvlLbl val="0"/>
      </c:catAx>
      <c:valAx>
        <c:axId val="69818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845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C12-3BAD-4A55-A2C4-3FC7E9D0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B75-5357-4F6D-86DC-7BB0B313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A27-315E-45EB-BB8A-85B92711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9A3-A210-4334-B33F-1C191EFE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793-03BD-4EA0-A283-983D343C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3F3-6205-4DF5-8E9B-0E22372C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C61-3E5E-457F-98BE-A87E97EA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B7A-3056-41AF-89F8-A05C556F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2F6-3EF1-4034-A2C5-690ACD57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FCF-7A22-4E47-B2EC-A947AD21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2054-BD6E-4EB0-AE71-A5C3DB2D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2C2-A1DC-4511-96AE-9EE2F917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08531-01CF-46A8-90E5-95DD4EB78C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