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755702"/>
        <c:axId val="33655675"/>
      </c:barChart>
      <c:catAx>
        <c:axId val="937557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655675"/>
        <c:crosses val="autoZero"/>
        <c:auto val="1"/>
        <c:lblAlgn val="ctr"/>
        <c:lblOffset val="100"/>
        <c:noMultiLvlLbl val="0"/>
      </c:catAx>
      <c:valAx>
        <c:axId val="336556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7557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57BE-6ADF-466E-A395-3928F1A4D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EF03-8545-4B1A-B803-7F573D9D2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2FEF-1966-4EAE-A3BF-93889B75D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E9F8-F253-4239-AC3D-C21732E4D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05DC-0D8C-4A95-92A7-C39B5F1AB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5916-6886-42AA-ACE4-14565F057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BCD1-56C6-416A-BBE5-A04900122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07D8-2E6E-41EB-AA07-B22172625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8C77-E424-4C5A-8DEF-A2C0CD3F4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A88A-6C65-4820-A66D-EB794F4F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0F9F-7045-45D5-8DC2-9F6F7DD5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68AA-C960-45A5-BBAF-66F6D7A4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30C477-09B7-40C2-BEE0-24B9A915773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