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04362"/>
        <c:axId val="85082160"/>
      </c:barChart>
      <c:catAx>
        <c:axId val="44604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2160"/>
        <c:crosses val="autoZero"/>
        <c:auto val="1"/>
        <c:lblAlgn val="ctr"/>
        <c:lblOffset val="100"/>
        <c:noMultiLvlLbl val="0"/>
      </c:catAx>
      <c:valAx>
        <c:axId val="85082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4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35D-5CA0-4F8A-9D9A-BDDB8472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C18-60B1-409F-A8E3-50A51C69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EFE-73C9-468E-8E9F-8E08E747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44D-CB34-4790-836B-6F0D7A93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DFD-0C5E-4AF6-A494-A96FF7B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763-2F19-4C68-849C-33A3B3F8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59A-7F7F-472D-9A0B-E064F98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87E-9435-4763-9AF6-5625A68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F69-2F72-4A9C-AD4E-7A81B63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296-D974-46C1-9A9A-1BF4861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516-F53C-4F59-A337-86B53D9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707-46F1-4774-803B-E24392C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D580D-8E81-4DDA-AD7A-67919E8EC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