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0087"/>
        <c:axId val="15742059"/>
      </c:barChart>
      <c:catAx>
        <c:axId val="8960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42059"/>
        <c:crosses val="autoZero"/>
        <c:auto val="1"/>
        <c:lblAlgn val="ctr"/>
        <c:lblOffset val="100"/>
        <c:noMultiLvlLbl val="0"/>
      </c:catAx>
      <c:valAx>
        <c:axId val="15742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0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4E0-19FE-4D76-B628-B5599A8A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8D0-E1A1-4CBA-9FF8-F9AB5C16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4936-5471-4294-89E6-D4C63DC5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187-EA83-4CF6-AB3C-D9661F87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FAD-CE7C-4194-B987-3C1AE742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8A1F-259B-49A7-A30B-9B0C035D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483-6D33-4924-B71A-43343834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6970-08E4-4D87-9934-0C7435B3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DD3D-F816-4AFA-835B-7CDF5189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1835-A6EF-4A24-9A55-38C8949A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C18-1B23-4C4A-86E4-CF29B90E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5F0F-EC5D-4949-BA1E-8D9E240F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FE22E-347A-4210-8995-C9E04D691F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